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C6A-8501-4C31-976B-372487FB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93B-418C-4B45-93FF-423E3DD0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EDA-BFEF-4195-BB37-9EE96014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0E1-7C07-4E6D-AD5D-7B5091BD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9A1-47ED-41DD-BF5A-9BBDC31E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A25-CEB7-459F-BB4A-D02F532E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A36-9AAF-4E6C-8CFC-49D2F29C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054-5279-42E5-B474-435B9BC1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3A8-5EA6-496D-BDED-1017CF82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652-9CAE-4495-ACDC-04451ABE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4E7A-6DDE-4863-B9AC-88246838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A44-0708-4F86-9621-E0AF27E0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6140-BD28-46B7-A590-F4665FBE2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67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down 4 important facts about yourself &amp; you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Suggestions Include: things that have happened to them, information about their family, facts about their personality or their his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 require at least ONE of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your parents said about how you were as a b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important about one of your parent's or grandparent'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Add 1 lie about yourself to the l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 A 5 DIGIT NUMBER AT THE TOP OF YOUR PAPER. DO NOT TYPE YOUR NAME! THE NUMBER WILL ACT AS YOUR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**WE WILL BE SHAREING THESE WITH THE CLASS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www-usr.rider.edu/~suler/lifefac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67480" y="2666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ome issues we discuss about the exerci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pattern to the list of life fac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list say about onesel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people determine which item was the li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lie meaningful and revealing of one's personal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nything important MISSING from the li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52:16Z</dcterms:created>
  <dc:creator>ballen</dc:creator>
  <dc:description/>
  <dc:language>en-US</dc:language>
  <cp:lastModifiedBy>ballen</cp:lastModifiedBy>
  <dcterms:modified xsi:type="dcterms:W3CDTF">2008-09-24T15:25:08Z</dcterms:modified>
  <cp:revision>5</cp:revision>
  <dc:subject/>
  <dc:title>Slide 1</dc:title>
</cp:coreProperties>
</file>